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3F0-118B-4CE8-93BA-3A2C2531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979-A5E8-46B9-A199-42405CD2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7C6-4A95-4CE4-8619-76D5F65D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F71-5983-48DE-A25B-3D974808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DC470-CF63-43AA-834B-25A6F47E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AB930-83C6-48C9-A0F8-5A53B4FA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8EF65-97DA-4411-B91B-4D6980DE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E79DF-8F04-4627-B9CD-339546DA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CDA7F-68CF-44EC-9D38-9FD7CCEB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7AD9A-C07E-48D0-AD37-8925C528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D912C-C60A-4CBA-96BC-FA780F7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5B6-C3BF-41D4-A2D6-491CF618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9F9A7-A355-444E-BA3D-CDF330E2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8C28A-3B82-4175-B64D-F36ECB3A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22F22-BE4B-4825-B5AF-02D2A39B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FA8B5-471A-4FB1-9AC9-03969F6F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925F5-8F46-453E-98F0-689FE579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DC2-BD96-4C57-9762-9FCAEBFD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F7D-496E-403C-9104-994A7781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37B-E87C-40E5-8373-F37CE814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D60-D4C4-4440-9F6F-A5E263EE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19C-0AD3-479B-B7D2-F405EEB9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117-9DAF-4DBE-B862-6458EDFF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9E4-3694-425F-87A9-C7EF0A5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1166-453F-4037-91FB-07DB87CA1F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F0BD-3B4B-4443-98A8-C7319CCBA3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 bet you didnt no that youll sleep through one-third of you’re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ed food was first developed in order to feed napoleon’s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Journal #2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best qual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worst qual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think s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seniors have dicided not to go on the class trip to Arizona, consequently these Students won’t see the painted dessert, the petrified forest or the grand cany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er mid-30’s, aunt Yolanda made a u-turn and, without the benefit of even one business course, went from a full time Mother and President of the pta to ceo of her own small company, we’re very proud of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Journal #22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detailed description of your left sho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riday Warm-up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names of five friends or family members.  Surround each name with five vivid descriptive adjec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53:25Z</dcterms:created>
  <dc:creator>tpagel</dc:creator>
  <dc:description/>
  <dc:language>en-US</dc:language>
  <cp:lastModifiedBy>tpagel</cp:lastModifiedBy>
  <dcterms:modified xsi:type="dcterms:W3CDTF">2010-06-03T16:53:41Z</dcterms:modified>
  <cp:revision>1</cp:revision>
  <dc:subject/>
  <dc:title>Warm-Up Sentences</dc:title>
</cp:coreProperties>
</file>